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CCA-C2FF-499A-9DEB-9523AF6F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C83-9B33-4B1D-8322-8F84BB3A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932-98F4-45AA-9F15-29BC72AE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68D-A91C-47B7-B9BC-F6C3446D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7EAD-AD11-419A-9844-E19EB6EA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26FF-13AC-43DC-9EE3-F86D40B5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50E8-75CC-472B-AE8D-25C8462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7BBB-61CB-4AD0-93CA-C79ED711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CEBC-6090-4B7F-BA78-E7E6B1EA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6A29-17EB-46D1-83F7-23B81905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C01E-06DD-4F5A-A991-7C2D883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597-AE9A-4E5C-B42D-BFA2A462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4CB-BF39-4F45-8E9E-1758521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41D0-0269-4016-994E-6BBE61A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B128-7E9C-4B62-BBA3-6CBF22F6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F216-B3B0-4538-AA62-33A08F2A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3B60-3A37-45A6-A4AB-6D22DAF8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FF35-F9D3-4DD0-AF11-4A634CA8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40F2-BC8F-415F-89E3-8B33B1AE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219A-447F-4613-A4AB-D3DF48E1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97C4-FAD5-4395-A268-7C9C2780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1CA5-7985-4586-BBE1-E7F1A9B3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E04-2A86-42AF-A840-F7CF104C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C0BA6-1FB9-4FC9-B2C6-6BB18A00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2060-9B38-4DEF-84A2-A0D20AF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6F02-7760-45CC-BFA7-CE0214A3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B4CD-0B10-42C6-A48C-F0B69BE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D4A8-66AF-42F3-8DD0-D5182BFA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B7B2-0374-4FFF-864E-BA2CC124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568A-347F-4A86-A3FE-32887134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DCFE-0FF7-420D-A0D7-19CFDDC4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B73E-F0CE-415A-9F41-DB78B879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E3711-9CC6-49D3-BA26-2BC68409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CF5-E494-4A2C-A911-7104296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56F1-4F98-447D-B88E-8E0C3DBD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10B5-8DEF-446E-A8B7-C2163484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4F559-E500-49C4-840C-8D47B8BA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CBD8-935D-4D09-87B7-42672DEF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5418-5357-475B-AA85-C9E82B5A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C401E-3B3B-49BB-BCC2-D55AB1E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ACFFC-93CB-467B-B001-4DF64B54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5BB7-5BB8-43C2-975F-88BBE0AA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83FA-37DF-4309-87F7-EE2E544A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AB048-C116-418E-8C60-6AAE04AE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AEA-7B89-4233-ABF7-F3FA7BC6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8886-AA71-4194-BF90-18D1BC2D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7CD87-A41B-460D-BCE0-0706621B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396DE-650D-4C5F-8726-CCB7FEF6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70745-09B3-4A82-87CE-EC46836E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78EFE-2B3C-46A1-B8BD-51662A18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7942D-9EDD-4539-A36E-CAE066C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44FBC-8B27-448D-8FDB-6AB15DE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4A5D0-CB98-4115-BBA7-03D00DC5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9D094-42FF-4B36-B3B2-875C7F6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5487D-FBD2-4B62-AF1F-4D71E358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713-32D6-4AA1-9DEF-ECB749AB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D863C-E753-4C0D-BDA8-B7D11928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43593-D0EA-4558-98C8-FF181778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74C58-77E8-4F4C-95F5-285A78A3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59E20-9B4D-4471-955B-7A7A4F3E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69789-E2DD-4B33-85F1-DD752510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9EB63-4B88-4835-8518-79C7E253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DE36D-EE95-4EB7-8287-7CB787E3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7F844-EF3A-4F19-BCA5-D6D6FBB2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46890-1CFE-4520-8894-61D630D8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DD32B-215D-4F01-A9A7-073214E3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71D-8758-4CC7-91D8-F3FC8F1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B24A5-921E-4689-9D1F-6A4F34A1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D0498-7706-4AAF-B11E-48B77655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CC1FE-B8D4-4260-9D9F-D4E139E7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2BB3A-B502-4322-B9FD-E7F2D4A8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A3BBD-1D22-4480-B2BE-18D244C5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E46FD-B489-4DAB-A2A6-0010E5F9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AD056-B7B1-48E3-8764-4D539A94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1E2AD-6FA4-4A5E-AEA3-4EC7E3A5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874D9-16AC-48B4-ADB2-E377EAB3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93DEE-1F06-4434-915E-C49E2C4D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426-8F9B-4BA4-A619-8F615EFB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19713-3A18-488B-91EB-CC908673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77272-9FF6-49A0-9EFB-E8D43D0D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5693B-951F-43E3-96E0-C87094E5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06D7B-769F-4D13-AB6A-37BEA164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3713F-2B64-4FC9-A5BB-4594B800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6F56D-B8A4-4D40-8F0D-B4B67054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1C2F0-28B7-46EC-9F5F-7BBD1D4E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A20EA-60B9-412E-BA64-EFCE6D2C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1CDB9-F34A-4EE4-ACBE-2E1B19B5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CC89A-B51C-4375-8980-3A000771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94B3-1D9B-4955-86A5-57045DD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25255-8BDB-47B0-9C8D-DD9322FA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3D0CB-152C-4395-8E60-8C2F7DFD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F44CC-5272-4DC3-A72F-00E836D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875C2-849D-4A97-AF71-39CFE574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89199-3D8C-4E4D-8D53-CFBA27D3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01760-21B3-4D24-AC57-7C2A8280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2F878-B875-4844-B3E5-1DDB9AD5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484D-9AB3-4287-97DD-EEFDA661BB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5D75-9706-4DFD-B3F1-FB07CFCF2B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E93A-EBEA-4DC6-8194-E0F4DFB2A8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A57A-5888-4418-9487-07D894823A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7E56-09E1-4219-9371-0B03F483E6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538C-3B47-4852-BDBD-1FC6D311CA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5004-4C1C-4AA9-B248-9E999C965C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911B-2259-474B-8D59-4D06DFFACD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hapter 2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Straight Connector 6"/>
          <p:cNvSpPr/>
          <p:nvPr/>
        </p:nvSpPr>
        <p:spPr>
          <a:xfrm flipH="1">
            <a:off x="1064880" y="1525680"/>
            <a:ext cx="3240" cy="342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1066680" y="4952880"/>
            <a:ext cx="43434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Straight Connector 10"/>
          <p:cNvSpPr/>
          <p:nvPr/>
        </p:nvSpPr>
        <p:spPr>
          <a:xfrm flipV="1">
            <a:off x="1752480" y="1904760"/>
            <a:ext cx="3048120" cy="2438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TextBox 12"/>
          <p:cNvSpPr/>
          <p:nvPr/>
        </p:nvSpPr>
        <p:spPr>
          <a:xfrm>
            <a:off x="525780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3049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49528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17"/>
          <p:cNvSpPr/>
          <p:nvPr/>
        </p:nvSpPr>
        <p:spPr>
          <a:xfrm>
            <a:off x="6324480" y="160020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ggragate Supply Curve – Shows for each possible price level, the quantity of G &amp; S that all the nation’s businesses are willing to produ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Straight Connector 4"/>
          <p:cNvSpPr/>
          <p:nvPr/>
        </p:nvSpPr>
        <p:spPr>
          <a:xfrm flipH="1">
            <a:off x="988560" y="1525680"/>
            <a:ext cx="3240" cy="30477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Straight Connector 6"/>
          <p:cNvSpPr/>
          <p:nvPr/>
        </p:nvSpPr>
        <p:spPr>
          <a:xfrm>
            <a:off x="990720" y="4572000"/>
            <a:ext cx="411480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4952880" y="4800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3808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Straight Connector 10"/>
          <p:cNvSpPr/>
          <p:nvPr/>
        </p:nvSpPr>
        <p:spPr>
          <a:xfrm flipV="1">
            <a:off x="1752480" y="1752120"/>
            <a:ext cx="2667240" cy="2133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Straight Connector 12"/>
          <p:cNvSpPr/>
          <p:nvPr/>
        </p:nvSpPr>
        <p:spPr>
          <a:xfrm>
            <a:off x="1676520" y="1676520"/>
            <a:ext cx="2971800" cy="2514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Straight Connector 16"/>
          <p:cNvSpPr/>
          <p:nvPr/>
        </p:nvSpPr>
        <p:spPr>
          <a:xfrm flipH="1">
            <a:off x="3045960" y="2820960"/>
            <a:ext cx="3240" cy="17524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Straight Connector 18"/>
          <p:cNvSpPr/>
          <p:nvPr/>
        </p:nvSpPr>
        <p:spPr>
          <a:xfrm flipH="1" flipV="1">
            <a:off x="990360" y="2819520"/>
            <a:ext cx="205740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9"/>
          <p:cNvSpPr/>
          <p:nvPr/>
        </p:nvSpPr>
        <p:spPr>
          <a:xfrm>
            <a:off x="44956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20"/>
          <p:cNvSpPr/>
          <p:nvPr/>
        </p:nvSpPr>
        <p:spPr>
          <a:xfrm>
            <a:off x="4724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21"/>
          <p:cNvSpPr/>
          <p:nvPr/>
        </p:nvSpPr>
        <p:spPr>
          <a:xfrm>
            <a:off x="266688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60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2"/>
          <p:cNvSpPr/>
          <p:nvPr/>
        </p:nvSpPr>
        <p:spPr>
          <a:xfrm>
            <a:off x="304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Oval 23"/>
          <p:cNvSpPr/>
          <p:nvPr/>
        </p:nvSpPr>
        <p:spPr>
          <a:xfrm flipH="1" flipV="1">
            <a:off x="3047400" y="2818800"/>
            <a:ext cx="75960" cy="759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4"/>
          <p:cNvSpPr/>
          <p:nvPr/>
        </p:nvSpPr>
        <p:spPr>
          <a:xfrm>
            <a:off x="28954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Straight Connector 26"/>
          <p:cNvSpPr/>
          <p:nvPr/>
        </p:nvSpPr>
        <p:spPr>
          <a:xfrm>
            <a:off x="838080" y="2438280"/>
            <a:ext cx="30492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Straight Connector 28"/>
          <p:cNvSpPr/>
          <p:nvPr/>
        </p:nvSpPr>
        <p:spPr>
          <a:xfrm>
            <a:off x="838080" y="2057400"/>
            <a:ext cx="3049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Straight Connector 31"/>
          <p:cNvSpPr/>
          <p:nvPr/>
        </p:nvSpPr>
        <p:spPr>
          <a:xfrm>
            <a:off x="838080" y="3124080"/>
            <a:ext cx="30492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Straight Connector 33"/>
          <p:cNvSpPr/>
          <p:nvPr/>
        </p:nvSpPr>
        <p:spPr>
          <a:xfrm>
            <a:off x="838080" y="3352680"/>
            <a:ext cx="30492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TextBox 35"/>
          <p:cNvSpPr/>
          <p:nvPr/>
        </p:nvSpPr>
        <p:spPr>
          <a:xfrm>
            <a:off x="38088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TextBox 36"/>
          <p:cNvSpPr/>
          <p:nvPr/>
        </p:nvSpPr>
        <p:spPr>
          <a:xfrm>
            <a:off x="304920" y="2286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TextBox 37"/>
          <p:cNvSpPr/>
          <p:nvPr/>
        </p:nvSpPr>
        <p:spPr>
          <a:xfrm>
            <a:off x="304920" y="1905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TextBox 38"/>
          <p:cNvSpPr/>
          <p:nvPr/>
        </p:nvSpPr>
        <p:spPr>
          <a:xfrm>
            <a:off x="380880" y="2971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Straight Connector 40"/>
          <p:cNvSpPr/>
          <p:nvPr/>
        </p:nvSpPr>
        <p:spPr>
          <a:xfrm flipH="1">
            <a:off x="3579480" y="4497480"/>
            <a:ext cx="3240" cy="30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Straight Connector 42"/>
          <p:cNvSpPr/>
          <p:nvPr/>
        </p:nvSpPr>
        <p:spPr>
          <a:xfrm flipH="1">
            <a:off x="4036680" y="4497480"/>
            <a:ext cx="3240" cy="30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Straight Connector 44"/>
          <p:cNvSpPr/>
          <p:nvPr/>
        </p:nvSpPr>
        <p:spPr>
          <a:xfrm flipH="1">
            <a:off x="2513160" y="4497480"/>
            <a:ext cx="2880" cy="30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traight Connector 46"/>
          <p:cNvSpPr/>
          <p:nvPr/>
        </p:nvSpPr>
        <p:spPr>
          <a:xfrm flipH="1">
            <a:off x="2055960" y="4497480"/>
            <a:ext cx="2880" cy="30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47"/>
          <p:cNvSpPr/>
          <p:nvPr/>
        </p:nvSpPr>
        <p:spPr>
          <a:xfrm>
            <a:off x="3200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64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48"/>
          <p:cNvSpPr/>
          <p:nvPr/>
        </p:nvSpPr>
        <p:spPr>
          <a:xfrm>
            <a:off x="2209680" y="48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56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TextBox 49"/>
          <p:cNvSpPr/>
          <p:nvPr/>
        </p:nvSpPr>
        <p:spPr>
          <a:xfrm>
            <a:off x="38862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68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TextBox 50"/>
          <p:cNvSpPr/>
          <p:nvPr/>
        </p:nvSpPr>
        <p:spPr>
          <a:xfrm>
            <a:off x="1600200" y="48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520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Box 51"/>
          <p:cNvSpPr/>
          <p:nvPr/>
        </p:nvSpPr>
        <p:spPr>
          <a:xfrm>
            <a:off x="5715000" y="1447920"/>
            <a:ext cx="3200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intersects AD at equilibrium point E, therefore EGDP is at 6000 and  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is at 100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4"/>
          <p:cNvSpPr/>
          <p:nvPr/>
        </p:nvSpPr>
        <p:spPr>
          <a:xfrm flipH="1">
            <a:off x="1064880" y="1525680"/>
            <a:ext cx="3240" cy="297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Straight Connector 6"/>
          <p:cNvSpPr/>
          <p:nvPr/>
        </p:nvSpPr>
        <p:spPr>
          <a:xfrm>
            <a:off x="990720" y="4495680"/>
            <a:ext cx="36576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44956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TextBox 8"/>
          <p:cNvSpPr/>
          <p:nvPr/>
        </p:nvSpPr>
        <p:spPr>
          <a:xfrm>
            <a:off x="3808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Straight Connector 10"/>
          <p:cNvSpPr/>
          <p:nvPr/>
        </p:nvSpPr>
        <p:spPr>
          <a:xfrm flipV="1">
            <a:off x="1447920" y="1676160"/>
            <a:ext cx="2057400" cy="19047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Straight Connector 11"/>
          <p:cNvSpPr/>
          <p:nvPr/>
        </p:nvSpPr>
        <p:spPr>
          <a:xfrm flipV="1">
            <a:off x="2057400" y="1752120"/>
            <a:ext cx="2286000" cy="221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Straight Connector 13"/>
          <p:cNvSpPr/>
          <p:nvPr/>
        </p:nvSpPr>
        <p:spPr>
          <a:xfrm>
            <a:off x="1447920" y="1752480"/>
            <a:ext cx="2971800" cy="221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Straight Connector 17"/>
          <p:cNvSpPr/>
          <p:nvPr/>
        </p:nvSpPr>
        <p:spPr>
          <a:xfrm flipH="1">
            <a:off x="3122640" y="1447920"/>
            <a:ext cx="1440" cy="3049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Straight Connector 24"/>
          <p:cNvSpPr/>
          <p:nvPr/>
        </p:nvSpPr>
        <p:spPr>
          <a:xfrm flipH="1">
            <a:off x="2514600" y="2514600"/>
            <a:ext cx="1440" cy="1982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Straight Connector 27"/>
          <p:cNvSpPr/>
          <p:nvPr/>
        </p:nvSpPr>
        <p:spPr>
          <a:xfrm flipH="1" flipV="1">
            <a:off x="1066680" y="2590920"/>
            <a:ext cx="14479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Straight Connector 29"/>
          <p:cNvSpPr/>
          <p:nvPr/>
        </p:nvSpPr>
        <p:spPr>
          <a:xfrm flipH="1" flipV="1">
            <a:off x="1066320" y="2971800"/>
            <a:ext cx="205740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3581280" y="14479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4419720" y="1523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TextBox 32"/>
          <p:cNvSpPr/>
          <p:nvPr/>
        </p:nvSpPr>
        <p:spPr>
          <a:xfrm>
            <a:off x="45720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TextBox 33"/>
          <p:cNvSpPr/>
          <p:nvPr/>
        </p:nvSpPr>
        <p:spPr>
          <a:xfrm>
            <a:off x="2819520" y="4495680"/>
            <a:ext cx="91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GDP EGD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Box 34"/>
          <p:cNvSpPr/>
          <p:nvPr/>
        </p:nvSpPr>
        <p:spPr>
          <a:xfrm>
            <a:off x="1981080" y="44956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GD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Box 35"/>
          <p:cNvSpPr/>
          <p:nvPr/>
        </p:nvSpPr>
        <p:spPr>
          <a:xfrm>
            <a:off x="380880" y="2438280"/>
            <a:ext cx="685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36"/>
          <p:cNvSpPr/>
          <p:nvPr/>
        </p:nvSpPr>
        <p:spPr>
          <a:xfrm>
            <a:off x="457200" y="2819520"/>
            <a:ext cx="7621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1800" spc="-1" strike="noStrike" baseline="-50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31" name="Straight Arrow Connector 38"/>
          <p:cNvCxnSpPr/>
          <p:nvPr/>
        </p:nvCxnSpPr>
        <p:spPr>
          <a:xfrm flipH="1">
            <a:off x="1293120" y="2590920"/>
            <a:ext cx="3960" cy="383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2" name="Straight Arrow Connector 41"/>
          <p:cNvCxnSpPr/>
          <p:nvPr/>
        </p:nvCxnSpPr>
        <p:spPr>
          <a:xfrm>
            <a:off x="2514240" y="4266720"/>
            <a:ext cx="61020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3" name="Straight Arrow Connector 44"/>
          <p:cNvCxnSpPr/>
          <p:nvPr/>
        </p:nvCxnSpPr>
        <p:spPr>
          <a:xfrm>
            <a:off x="3200400" y="1980720"/>
            <a:ext cx="83880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34" name="TextBox 45"/>
          <p:cNvSpPr/>
          <p:nvPr/>
        </p:nvSpPr>
        <p:spPr>
          <a:xfrm>
            <a:off x="5486400" y="1225440"/>
            <a:ext cx="342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 does it work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we get deeper into a recession workers’ need for pay will overwhelm their desire for higher wages so they will accept wage cut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e know that when wages decrease, costs decrease, therefore prices will decrease and producers will want to produce more at all level of GDP. This shifts AS ou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en EGDP is less than PGDP the self-correcting mechanism  will shift AS out, so that AS intersects with AD at PGDP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Straight Connector 3"/>
          <p:cNvSpPr/>
          <p:nvPr/>
        </p:nvSpPr>
        <p:spPr>
          <a:xfrm flipH="1">
            <a:off x="1064880" y="1525680"/>
            <a:ext cx="3240" cy="297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Straight Connector 4"/>
          <p:cNvSpPr/>
          <p:nvPr/>
        </p:nvSpPr>
        <p:spPr>
          <a:xfrm>
            <a:off x="990720" y="4495680"/>
            <a:ext cx="36576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TextBox 5"/>
          <p:cNvSpPr/>
          <p:nvPr/>
        </p:nvSpPr>
        <p:spPr>
          <a:xfrm>
            <a:off x="3808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Straight Connector 6"/>
          <p:cNvSpPr/>
          <p:nvPr/>
        </p:nvSpPr>
        <p:spPr>
          <a:xfrm>
            <a:off x="1447920" y="1676520"/>
            <a:ext cx="2971800" cy="22096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Straight Connector 7"/>
          <p:cNvSpPr/>
          <p:nvPr/>
        </p:nvSpPr>
        <p:spPr>
          <a:xfrm flipH="1">
            <a:off x="3123720" y="1447920"/>
            <a:ext cx="1800" cy="3049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TextBox 8"/>
          <p:cNvSpPr/>
          <p:nvPr/>
        </p:nvSpPr>
        <p:spPr>
          <a:xfrm>
            <a:off x="44197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Straight Connector 9"/>
          <p:cNvSpPr/>
          <p:nvPr/>
        </p:nvSpPr>
        <p:spPr>
          <a:xfrm flipV="1">
            <a:off x="2057400" y="1752120"/>
            <a:ext cx="2286000" cy="221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TextBox 10"/>
          <p:cNvSpPr/>
          <p:nvPr/>
        </p:nvSpPr>
        <p:spPr>
          <a:xfrm>
            <a:off x="4495680" y="1600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TextBox 11"/>
          <p:cNvSpPr/>
          <p:nvPr/>
        </p:nvSpPr>
        <p:spPr>
          <a:xfrm>
            <a:off x="4419720" y="4648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Box 12"/>
          <p:cNvSpPr/>
          <p:nvPr/>
        </p:nvSpPr>
        <p:spPr>
          <a:xfrm>
            <a:off x="274320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GDP/EGD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Straight Connector 14"/>
          <p:cNvSpPr/>
          <p:nvPr/>
        </p:nvSpPr>
        <p:spPr>
          <a:xfrm flipH="1" flipV="1">
            <a:off x="1066320" y="2895120"/>
            <a:ext cx="20574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Oval 15"/>
          <p:cNvSpPr/>
          <p:nvPr/>
        </p:nvSpPr>
        <p:spPr>
          <a:xfrm flipH="1" flipV="1">
            <a:off x="3047400" y="2818800"/>
            <a:ext cx="152280" cy="152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TextBox 16"/>
          <p:cNvSpPr/>
          <p:nvPr/>
        </p:nvSpPr>
        <p:spPr>
          <a:xfrm>
            <a:off x="5335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TextBox 17"/>
          <p:cNvSpPr/>
          <p:nvPr/>
        </p:nvSpPr>
        <p:spPr>
          <a:xfrm>
            <a:off x="5334120" y="12193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e are at full employment when the AS curve intersects with the AD curve at the point where EGDP is equal to PGDP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2:13Z</dcterms:created>
  <dc:creator>JWUSSLER</dc:creator>
  <dc:description/>
  <dc:language>en-US</dc:language>
  <cp:lastModifiedBy>JWUSSLER</cp:lastModifiedBy>
  <dcterms:modified xsi:type="dcterms:W3CDTF">2009-01-26T19:08:46Z</dcterms:modified>
  <cp:revision>6</cp:revision>
  <dc:subject/>
  <dc:title>Unit 5</dc:title>
</cp:coreProperties>
</file>